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D8A-ECA0-4595-8349-B691B54F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44E-7DA6-44F9-950B-7B47F5CC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257-DB4A-4D2F-9CBA-E2640B17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87B-C25F-435F-BFB6-078A4637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0D6-F359-4776-901F-DD64D3EB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C0AB-7DD3-44B2-9DFA-2F67BF0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A8EC-44CA-4774-A935-B1D5DD8C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3EC7-879F-4C2A-9ED2-2BFF9995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4E1A-50B4-4CA4-81B0-D7E68D5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EC9A-06D3-42A6-80A3-7F786449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74BA-BD11-4AF3-A4A9-70C5F8C1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BDE-411C-4B6E-A191-400D7AC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4547-875B-4569-ACA9-D37B082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61DD-42B6-4895-8338-7BFC9D8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ED22-1CB2-4686-8019-2625D4C0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5306-99DF-4AC2-BE47-6FADF584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981D-0EB4-4C68-81D7-72A0D764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599-2569-422F-8A27-44BF4B43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7A9-6042-4465-9A6C-788785E1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72A-36BA-4B1A-85CB-86338621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06B-5D66-43E9-A0FB-638C26D7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CB0-B609-4B09-88E4-5AC805B4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797-91B1-43F4-B4C6-BB762A0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AB7-784D-4AD5-AE71-D04E930B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31EA-AF9E-403D-8DE1-0660D908EAC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84CC-41A0-48D6-B81C-EBAE800E3B0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emonlemonade.files.wordpress.com/2010/06/goals2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6094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2f1311"/>
                </a:solidFill>
                <a:uFillTx/>
                <a:latin typeface="Alba Super"/>
              </a:rPr>
              <a:t>Setting Objectiv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To provide direction for lear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438280"/>
            <a:ext cx="71625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will students lea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rrow student focus;  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t too specific, but flexi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ersonalize  and communicate learning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als (I can statement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5003640"/>
            <a:ext cx="2438640" cy="162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25:11Z</dcterms:created>
  <dc:creator>workstation</dc:creator>
  <dc:description/>
  <dc:language>en-US</dc:language>
  <cp:lastModifiedBy>workstation</cp:lastModifiedBy>
  <dcterms:modified xsi:type="dcterms:W3CDTF">2010-08-03T14:38:58Z</dcterms:modified>
  <cp:revision>2</cp:revision>
  <dc:subject/>
  <dc:title>Slide 1</dc:title>
</cp:coreProperties>
</file>